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8881920"/>
            <a:ext cx="19432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ment Ser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6120" y="8886600"/>
            <a:ext cx="1866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vised 7/31/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04920" y="533520"/>
            <a:ext cx="6324480" cy="77724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3505320" y="609480"/>
          <a:ext cx="3124080" cy="7585200"/>
        </p:xfrm>
        <a:graphic>
          <a:graphicData uri="http://schemas.openxmlformats.org/drawingml/2006/table">
            <a:tbl>
              <a:tblPr/>
              <a:tblGrid>
                <a:gridCol w="2057400"/>
                <a:gridCol w="1066680"/>
              </a:tblGrid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ing Wind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STAAR-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0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STA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9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AAR Wri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7-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AAR-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AAR Rea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STAR Scree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 – May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AR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STAAR-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STA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ading STAAR-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ading STA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1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ience STA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ience STAAR-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c. Studies STA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olastic Rdg Inven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30–May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ebra End-of-Course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</a:tr>
              <a:tr h="396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ebra End-of-Course Ex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ience Spring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8 - 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istory Spring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8 - 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echnology EO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7 - 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2" name="Footer Placeholder 8"/>
          <p:cNvSpPr/>
          <p:nvPr/>
        </p:nvSpPr>
        <p:spPr>
          <a:xfrm>
            <a:off x="4686480" y="8886960"/>
            <a:ext cx="186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vised 6/10/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609480"/>
          <a:ext cx="3200400" cy="7620120"/>
        </p:xfrm>
        <a:graphic>
          <a:graphicData uri="http://schemas.openxmlformats.org/drawingml/2006/table">
            <a:tbl>
              <a:tblPr/>
              <a:tblGrid>
                <a:gridCol w="2133360"/>
                <a:gridCol w="1067040"/>
              </a:tblGrid>
              <a:tr h="44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ing Wind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2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STAR Scree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 29-Sept 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olastic Rdg Inven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 26 - Oct 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ading/ELA Fall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14 - 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/Alg Fall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14 - 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riting STAAR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ience Fall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5 -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32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c.Studies Fall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5 -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olastic Rdg Inven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5 -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5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AAR-A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 - Apr 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4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STAR Scree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3 - 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0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STAAR Benchmar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0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ading STAAR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3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olastic Rdg Inven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-Mar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PAS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P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5 – Apr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PAS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gebra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&amp;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ience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dg &amp;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istory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ading TAKS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44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AR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764640" y="0"/>
            <a:ext cx="533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011-2012  District Assessment Calend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609480"/>
            <a:ext cx="0" cy="769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7520" y="8381880"/>
            <a:ext cx="191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CBA – Campus-Based Assess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4960" y="8381880"/>
            <a:ext cx="259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Benchmark – Used To Be Called District Snapsho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0440" y="8631360"/>
            <a:ext cx="599760" cy="215640"/>
          </a:xfrm>
          <a:prstGeom prst="rect">
            <a:avLst/>
          </a:prstGeom>
          <a:gradFill rotWithShape="0">
            <a:gsLst>
              <a:gs pos="0">
                <a:srgbClr val="717451"/>
              </a:gs>
              <a:gs pos="50000">
                <a:srgbClr val="f7fcb0"/>
              </a:gs>
              <a:gs pos="100000">
                <a:srgbClr val="71745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in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0160" y="8631360"/>
            <a:ext cx="1538640" cy="215640"/>
          </a:xfrm>
          <a:prstGeom prst="rect">
            <a:avLst/>
          </a:prstGeom>
          <a:gradFill rotWithShape="0">
            <a:gsLst>
              <a:gs pos="0">
                <a:srgbClr val="626275"/>
              </a:gs>
              <a:gs pos="50000">
                <a:srgbClr val="d5d5ff"/>
              </a:gs>
              <a:gs pos="100000">
                <a:srgbClr val="6262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-Class District Assess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93760" y="8610480"/>
            <a:ext cx="2189520" cy="21564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-Day District Practice TAKS Assess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2600" y="8610480"/>
            <a:ext cx="1060200" cy="21564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e Assess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21:03:28Z</dcterms:created>
  <dc:creator>cblack</dc:creator>
  <dc:description/>
  <dc:language>en-US</dc:language>
  <cp:lastModifiedBy>bisd</cp:lastModifiedBy>
  <dcterms:modified xsi:type="dcterms:W3CDTF">2011-05-26T20:55:42Z</dcterms:modified>
  <cp:revision>466</cp:revision>
  <dc:subject/>
  <dc:title>Slide 1</dc:title>
</cp:coreProperties>
</file>